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694885"/>
        <c:axId val="59104320"/>
      </c:barChart>
      <c:catAx>
        <c:axId val="676948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04320"/>
        <c:crosses val="autoZero"/>
        <c:auto val="1"/>
        <c:lblAlgn val="ctr"/>
        <c:lblOffset val="100"/>
        <c:noMultiLvlLbl val="0"/>
      </c:catAx>
      <c:valAx>
        <c:axId val="591043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6948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AF6D-2CEB-40E1-A9BE-4E8378FB5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8492-7E91-44A6-A6C3-71BC025C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755D-EFAA-40A8-AB52-0EF19E583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3BC9-430B-46F4-8779-DC1524E99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301A-0E56-4F64-9E35-0B46D6E7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5733-107E-4923-9C2A-8B502DA2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9037-4C81-4257-9BCC-B8DC2F24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1B8A-F20C-4E71-8F1C-CD11384E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BD93-D801-4E51-BF0D-DBE4203E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2B2C-4230-4A22-9EC3-DD30205A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10AD-3C97-45B5-8F33-33532C6C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FD8F-46E6-4318-8175-ECB599E5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79E6E-15DC-49E0-B66A-8FAFF7109D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